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8D0-6B8C-474B-9213-6943744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899-9927-4497-B334-F85CE395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E7C-4F81-4B1D-B221-42544EFC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F21-BBFB-41FB-A6BE-F194F835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676-BB4D-4DB4-9609-5F95CDB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BA5-AB82-42D3-BD1A-086031F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17A-C62C-4DEF-A660-C49C129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832-1AE8-4FAD-88D2-1A16470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590-E251-411F-B27C-81025E9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7F9-806A-436E-9571-E58CD2B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D35-F330-4C0B-B294-7AAD006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E36-3595-4A4B-9272-8FF7163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43CB-46D2-4344-9147-7B5EABC65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000"/>
            </a:b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br>
              <a:rPr sz="2000"/>
            </a:b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Трудности обучения письму и чтению в начальной школ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в 1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.руководитель:Ванюшина Е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Симптомы невним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о внимателен к дета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удерживает вним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бы не слушает говорящ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довести дело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организует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егает выполнения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яет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лекается на внешние раздраж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ё за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Симптомы гиперактив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ыгает руками или ногами, крути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усидеть на месте, когда это требу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езмерно разговорч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сится или лезет куда – либо, когда это не разреша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может тихо иг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«заведён», «как будто внутри мото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Симптомы импульсив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аливает от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езмерно разговорч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дожидается своей очере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рывает друг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шивается в чужой разго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 гиперактивных детей эти симпто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постоян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Нарушения концентрации внимания является причиной трудностей в выполнении всех учебных заданий, в том числе письма и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вольствие, удовлетворение являются важным фактором организации психической деятельности ребёнка, оказывают на него стимулирующее вли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же всего гиперактивные дети выполняют задания, которые кажутся им скучными, трудными и не подкрепляются поощр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занятий им сложно порой справится с заданием не потому, что они не способны их выполнить, а потому, что испытывают трудности в организации свое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Monotype Corsiva"/>
              </a:rPr>
              <a:t>Как помочь гиперактивному ребёнку осво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Monotype Corsiva"/>
              </a:rPr>
              <a:t>письмо и чт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сните со специалистами, действительно ли ребёнок гиперак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итесь общаться со своим непосед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опускайте грубость, унижение, зл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 Не разговаривайте раздражённо, если вас отвлекает ребёнок между делом, просто извини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  Ваша речь должна быть чёткой, неторопливой, а задание ясным и однозна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  Не начинайте говорить, пока не убедитесь, что ребёнок слушает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Для привлечения внимания используйте систему жестов, дополнитель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Обязательна работа «глаза в глаза», зрительный контакт помогает сосредото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Избегайте слов «Неправильно», «Не так», целесообразнее говорить «Попробуем сделать еще раз», «Уже лучше, я знаю, что у тебя всё получит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Не акцентируйте внимание ребёнка на неудаче,    он должен быть уверен, что успех возмо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Необходимы подбадривание и поддержка по ходу выполнения, это придаёт им уверенность и стимулирует продолже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Работа родителей с ребёнком, имеющим школьные проблем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родителей не должна ограничиваться только контролем за выполнением домашних заданий. Родители должны знать, как нужно организовать занятие, как взаимодействовать с ребён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Они должны соблюдать основные правила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шное продвижение возможно лишь в том случае, если трудность и сложность заданий не увеличиваются, а умень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ть необходимо регулярно и ежедневно, но никогда по воскресеньям и на канику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ть занятия следует с 10 -1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ть занятия с игровых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ниматься, если ребёнок очень устал, утомлён или произошли какие – то особые собы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занятия должны быть включены задания, которые ребёнок обязательно сможет выполнить, или достаточно лёгкие, не вызывающие серьёзного напряжения. Это позволит ему настроится на успех, а родителям – использовать принцип положительного подкрепления: «Видишь, как хорошо всё получилось!», «У тебя сегодня хорошо всё получается», -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длительных занятий через 15 минут обязательно должны быть паузы, упражнения на расслаб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Успех такой работы во многом зависит от того, сможет ли ребёнок поверить в свой успех, но сначала в это должны поверить взрослые, учитель и р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68616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«Письмо должно быть осмысленно 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для ребёнка, должно быть вызвано естественной  потребностью, надобностью, включено в жизненную , необходимую для ребёнка задачу. Только тогда мы можем быть уверены, что оно будет развиваться у ребёнка не как привычки руки и пальцев.»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                                                                                                Выготский Л.С.</a:t>
            </a:r>
            <a:br>
              <a:rPr sz="20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етодические рекомендации для родител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3640" y="67816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ANY2013"/>
          <p:cNvPicPr/>
          <p:nvPr/>
        </p:nvPicPr>
        <p:blipFill>
          <a:blip r:embed="rId1"/>
          <a:stretch/>
        </p:blipFill>
        <p:spPr>
          <a:xfrm>
            <a:off x="5791320" y="4343400"/>
            <a:ext cx="3073320" cy="2228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46" name="Picture 5" descr="SANY2009"/>
          <p:cNvPicPr/>
          <p:nvPr/>
        </p:nvPicPr>
        <p:blipFill>
          <a:blip r:embed="rId2"/>
          <a:stretch/>
        </p:blipFill>
        <p:spPr>
          <a:xfrm>
            <a:off x="380880" y="4336920"/>
            <a:ext cx="2590920" cy="2200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ричины трудност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rganization Chart 6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1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0"/>
            <p:cNvCxnSpPr>
              <a:stCxn id="55" idx="0"/>
              <a:endCxn id="51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33ff"/>
                  </a:solidFill>
                  <a:latin typeface="Arial"/>
                </a:rPr>
                <a:t>Фактор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неш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экзоген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меш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комплексные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эндоген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Monotype Corsiva"/>
              </a:rPr>
              <a:t>Внешние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окульту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ые факторы р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интенсивность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неадекватность требований и м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Monotype Corsiva"/>
              </a:rPr>
              <a:t>Смешанные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вичная неграмо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ункциональная неграмо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ые группы р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асто болеющи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длитель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иперактив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воруки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и из социально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Monotype Corsiva"/>
              </a:rPr>
              <a:t>Внутренние фактор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ушения пре- и постнаталь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ушения нейросенсор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исфункции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сформированность коры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растная несформированность познавательн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Monotype Corsiva"/>
              </a:rPr>
              <a:t>Трудности обучения письму и чтению медлительных дет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лительный ребёнок – это особенность организации  высшей нервной деятельности, определяющие темп и скорость движений, письма,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ропить, подгонять такого ребёнка не   только бесполезно, но и вре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ицательно сказывается ограничение времени на отдых, поскольку не успевает сделать задания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енна трудность быстрого     переключения на новый вид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школьные нагрузки утомительны. После школы лучше быть дома в спокойной обстановке. Продлёнка – не для медлительных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ая трудность «что и как писать» возникает в силу того, что они просто не могут успеть воспринять информацию, успеть переключиться с друг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не имеем права требовать от ребёнка читать намного быстрее, чем он мо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6478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Трудности обучения письму и чтению гиперактивных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активность – это повышенная, чрезмерная активность детей, которая сочетается с трудностями концентрации внимания и импульс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, чтобы родители имели представление о том, какие нарушения поведения ребёнка характеризуют как невнимательность, гиперактивность и импульсивность, приведём классическое описание этих симп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02T06:29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